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DE4C-D786-48BA-9E54-2A8A79CCD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omplete the link on the last slide, the computer must be connected to (and logged on to) the int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as originally posted 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8.183.128.3/ce/ppt.htm      Connie Campbell can be reached at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pbelc@k12tn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omplete the link on this slide, the computer must be connected to (and logged on to) the int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try this on your own before, you use it with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704-FAC8-44ED-8BF6-1A145A49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690-E827-48F9-AA07-5B8C6ADB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368-A99A-40E3-9DF0-94233D29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7A5-DBF3-4F1B-AAB7-6F9520C4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FAF-D421-4677-81AA-05554354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4D6-CC2E-4391-B772-87790800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3FD-4342-4EBD-A7D1-69578EBA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C4E-A8C9-485B-AE40-9E572CF6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8C3-9E69-4D84-AA04-D38493E0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400-F619-4468-9367-1F8737F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C4B-320B-4972-BA28-9F7A36A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FD7-7B36-451D-A412-95B1244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6A82-AA3D-45E4-B5B9-E499E7548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mpbelc@ten-nash.ten.k12.tn.u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tm.org/HITHELP/HIT00040.HTM" TargetMode="External"/><Relationship Id="rId2" Type="http://schemas.openxmlformats.org/officeDocument/2006/relationships/hyperlink" Target="http://falcon.cc.ukans.edu/~funshine/Larry/W&amp;RFRM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57400" y="228600"/>
            <a:ext cx="541008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234720" y="3276720"/>
            <a:ext cx="8853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oot word is a word that has a prefix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ffix, or both added to i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line the root words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llowing slid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le the prefix or suffi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96240" y="2403360"/>
            <a:ext cx="37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Connie Camp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909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161160" y="1371600"/>
            <a:ext cx="382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eas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hones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mel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5238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33526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5181480"/>
            <a:ext cx="137160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68580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76920" y="2286000"/>
            <a:ext cx="121896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4038480"/>
            <a:ext cx="198144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657600" y="5867280"/>
            <a:ext cx="17524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40280" y="304920"/>
            <a:ext cx="6213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 you need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ctice,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Searching for Roo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44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Words and Roo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goofy" descr=""/>
          <p:cNvPicPr/>
          <p:nvPr/>
        </p:nvPicPr>
        <p:blipFill>
          <a:blip r:embed="rId3"/>
          <a:stretch/>
        </p:blipFill>
        <p:spPr>
          <a:xfrm>
            <a:off x="2895480" y="3940200"/>
            <a:ext cx="3276720" cy="291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629400" y="518148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7200" y="1828800"/>
            <a:ext cx="913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ve the mouse to the bottom left cor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til an arrow appear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he bottom left arrow to sel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6172200"/>
            <a:ext cx="1600200" cy="457200"/>
          </a:xfrm>
          <a:prstGeom prst="leftArrow">
            <a:avLst>
              <a:gd name="adj1" fmla="val 50000"/>
              <a:gd name="adj2" fmla="val 8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3320" y="5711760"/>
            <a:ext cx="53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the following slides click this but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lick the wor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enpointx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78144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2973600" y="1371600"/>
            <a:ext cx="318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zipp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arch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nrag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2973600" y="1371600"/>
            <a:ext cx="318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zipp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arch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nrag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0" y="2182680"/>
            <a:ext cx="787320" cy="5076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52640" y="15112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14479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3526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1814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51814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4114800"/>
            <a:ext cx="19810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114800" y="5867280"/>
            <a:ext cx="12952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2973240" y="1371600"/>
            <a:ext cx="344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mou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lo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ramp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133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2973240" y="1371600"/>
            <a:ext cx="344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mou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lo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ramp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4479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2286000"/>
            <a:ext cx="19810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2767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962520" y="4038480"/>
            <a:ext cx="129528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3352680"/>
            <a:ext cx="1219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00400" y="5943600"/>
            <a:ext cx="182880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5181480"/>
            <a:ext cx="1219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43828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2057760" y="1371600"/>
            <a:ext cx="526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appoint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friend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lov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43828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2057760" y="1371600"/>
            <a:ext cx="526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appoint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friend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lov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2767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51814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1814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3352680"/>
            <a:ext cx="105732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1447920"/>
            <a:ext cx="1057320" cy="87768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523880"/>
            <a:ext cx="1828800" cy="878040"/>
          </a:xfrm>
          <a:custGeom>
            <a:avLst/>
            <a:gdLst/>
            <a:ahLst/>
            <a:rect l="l" t="t" r="r" b="b"/>
            <a:pathLst>
              <a:path w="666" h="553">
                <a:moveTo>
                  <a:pt x="498" y="57"/>
                </a:moveTo>
                <a:cubicBezTo>
                  <a:pt x="479" y="51"/>
                  <a:pt x="460" y="44"/>
                  <a:pt x="441" y="40"/>
                </a:cubicBezTo>
                <a:cubicBezTo>
                  <a:pt x="419" y="36"/>
                  <a:pt x="396" y="38"/>
                  <a:pt x="375" y="32"/>
                </a:cubicBezTo>
                <a:cubicBezTo>
                  <a:pt x="354" y="26"/>
                  <a:pt x="338" y="10"/>
                  <a:pt x="319" y="0"/>
                </a:cubicBezTo>
                <a:cubicBezTo>
                  <a:pt x="253" y="6"/>
                  <a:pt x="196" y="21"/>
                  <a:pt x="131" y="32"/>
                </a:cubicBezTo>
                <a:cubicBezTo>
                  <a:pt x="112" y="38"/>
                  <a:pt x="90" y="38"/>
                  <a:pt x="74" y="49"/>
                </a:cubicBezTo>
                <a:cubicBezTo>
                  <a:pt x="41" y="71"/>
                  <a:pt x="47" y="125"/>
                  <a:pt x="17" y="154"/>
                </a:cubicBezTo>
                <a:cubicBezTo>
                  <a:pt x="8" y="192"/>
                  <a:pt x="0" y="205"/>
                  <a:pt x="9" y="244"/>
                </a:cubicBezTo>
                <a:cubicBezTo>
                  <a:pt x="17" y="345"/>
                  <a:pt x="34" y="476"/>
                  <a:pt x="148" y="512"/>
                </a:cubicBezTo>
                <a:cubicBezTo>
                  <a:pt x="190" y="542"/>
                  <a:pt x="163" y="527"/>
                  <a:pt x="237" y="545"/>
                </a:cubicBezTo>
                <a:cubicBezTo>
                  <a:pt x="248" y="548"/>
                  <a:pt x="270" y="553"/>
                  <a:pt x="270" y="553"/>
                </a:cubicBezTo>
                <a:cubicBezTo>
                  <a:pt x="362" y="540"/>
                  <a:pt x="453" y="528"/>
                  <a:pt x="546" y="520"/>
                </a:cubicBezTo>
                <a:cubicBezTo>
                  <a:pt x="587" y="510"/>
                  <a:pt x="620" y="508"/>
                  <a:pt x="644" y="472"/>
                </a:cubicBezTo>
                <a:cubicBezTo>
                  <a:pt x="666" y="382"/>
                  <a:pt x="657" y="295"/>
                  <a:pt x="644" y="203"/>
                </a:cubicBezTo>
                <a:cubicBezTo>
                  <a:pt x="639" y="170"/>
                  <a:pt x="631" y="117"/>
                  <a:pt x="611" y="89"/>
                </a:cubicBezTo>
                <a:cubicBezTo>
                  <a:pt x="591" y="61"/>
                  <a:pt x="529" y="57"/>
                  <a:pt x="498" y="57"/>
                </a:cubicBezTo>
                <a:close/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2209680"/>
            <a:ext cx="251460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038480"/>
            <a:ext cx="1981440" cy="7632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267080" y="5790600"/>
            <a:ext cx="1219320" cy="75960"/>
          </a:xfrm>
          <a:custGeom>
            <a:avLst/>
            <a:gdLst/>
            <a:ahLst/>
            <a:rect l="l" t="t" r="r" b="b"/>
            <a:pathLst>
              <a:path w="496" h="32">
                <a:moveTo>
                  <a:pt x="0" y="24"/>
                </a:moveTo>
                <a:cubicBezTo>
                  <a:pt x="44" y="18"/>
                  <a:pt x="87" y="11"/>
                  <a:pt x="130" y="0"/>
                </a:cubicBezTo>
                <a:cubicBezTo>
                  <a:pt x="252" y="15"/>
                  <a:pt x="373" y="32"/>
                  <a:pt x="496" y="3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o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161160" y="1371600"/>
            <a:ext cx="382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eas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hones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mel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2T03:32:48Z</dcterms:created>
  <dc:creator>Dandridge Elementary</dc:creator>
  <dc:description/>
  <dc:language>en-US</dc:language>
  <cp:lastModifiedBy>Madera High School</cp:lastModifiedBy>
  <dcterms:modified xsi:type="dcterms:W3CDTF">1904-01-08T08:49:17Z</dcterms:modified>
  <cp:revision>7</cp:revision>
  <dc:subject/>
  <dc:title>No Slide Title</dc:title>
</cp:coreProperties>
</file>